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F7C0-D5AD-4C6D-81D3-39C6F75B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604-DED6-4951-9F03-2D468FC1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45B-62C9-4D13-BFE2-FDF33580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6624-129B-42A4-9F3B-7612BB27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3C6-3829-4368-9E83-0E185465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9C2-A0CB-4AFF-9845-58B61419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626E-B5A8-48FA-8158-5CA10A7D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880B-70EC-40D0-80AF-A4F35699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E0F7-7009-440D-8BEB-7668F62F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E5A-1D38-4B2D-B5E6-267E8AF3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04F-F8A8-4966-891C-69DD19E1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4E9B-771F-4F06-AD36-4CEDDE8A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412E-CE54-436C-889F-1ED8C10DEC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29280" y="1857240"/>
            <a:ext cx="4914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ллюзии и интерпретации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еронима Босха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1450-151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714240" y="785880"/>
            <a:ext cx="3857760" cy="50594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5572080" y="6143760"/>
            <a:ext cx="3571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Фесенко Александр Отто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Учитель изобразительного искус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МБОУ «Высокоключевая СОШ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57800" y="5714640"/>
            <a:ext cx="49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Человек-дерево в пейзаже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5" descr="Человек-дерево в пейзаже"/>
          <p:cNvPicPr/>
          <p:nvPr/>
        </p:nvPicPr>
        <p:blipFill>
          <a:blip r:embed="rId2"/>
          <a:stretch/>
        </p:blipFill>
        <p:spPr>
          <a:xfrm>
            <a:off x="357120" y="306360"/>
            <a:ext cx="47149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5571720"/>
            <a:ext cx="28576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скушение Святого Антон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Рисунок 3" descr="искушение Св Антония.jpg"/>
          <p:cNvPicPr/>
          <p:nvPr/>
        </p:nvPicPr>
        <p:blipFill>
          <a:blip r:embed="rId2"/>
          <a:stretch/>
        </p:blipFill>
        <p:spPr>
          <a:xfrm>
            <a:off x="2843280" y="0"/>
            <a:ext cx="63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Монстр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4" descr="монстры"/>
          <p:cNvPicPr/>
          <p:nvPr/>
        </p:nvPicPr>
        <p:blipFill>
          <a:blip r:embed="rId2"/>
          <a:stretch/>
        </p:blipFill>
        <p:spPr>
          <a:xfrm>
            <a:off x="357120" y="928800"/>
            <a:ext cx="862812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444600" y="571500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вятой  Антоний.15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Рисунок 3" descr="Св Антоний.jpg"/>
          <p:cNvPicPr/>
          <p:nvPr/>
        </p:nvPicPr>
        <p:blipFill>
          <a:blip r:embed="rId2"/>
          <a:stretch/>
        </p:blipFill>
        <p:spPr>
          <a:xfrm>
            <a:off x="3571920" y="0"/>
            <a:ext cx="485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4811040" y="635796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знесение. 150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Рисунок 3" descr="Вознесение.jpg"/>
          <p:cNvPicPr/>
          <p:nvPr/>
        </p:nvPicPr>
        <p:blipFill>
          <a:blip r:embed="rId2"/>
          <a:stretch/>
        </p:blipFill>
        <p:spPr>
          <a:xfrm>
            <a:off x="714240" y="0"/>
            <a:ext cx="294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1099800" y="62866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сение креста. 1515-151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Рисунок 3" descr="Несение креста 1.jpg"/>
          <p:cNvPicPr/>
          <p:nvPr/>
        </p:nvPicPr>
        <p:blipFill>
          <a:blip r:embed="rId2"/>
          <a:stretch/>
        </p:blipFill>
        <p:spPr>
          <a:xfrm>
            <a:off x="4429080" y="0"/>
            <a:ext cx="36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214280" y="1643040"/>
            <a:ext cx="18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.wikipedia.org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1171440" y="22860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bay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214280" y="2714760"/>
            <a:ext cx="17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bliotekar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2617560" y="642960"/>
            <a:ext cx="31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Использованные ресур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85840" y="1357200"/>
            <a:ext cx="8858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dventureC"/>
              </a:rPr>
              <a:t>Босх Хиеронимус ван Акен, (около 1450/60–1516), великий нидерландский живописец. Работал главным образом в Хертогенбосе в Северной Фландрии. Один из наиболее ярких мастеров раннего Северного Возрождения, Иероним Босх в своих многофигурных композициях сочетал изощренную средневековую фантастику с необычными для искусства его эпохи реалистическими новшествами. Стиль Босха уникален и не имеет аналогий в нидерландской живописной традиции. 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571680" y="2000160"/>
            <a:ext cx="857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ллю́з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лат. 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illusio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— заблуждение, обман) — искаженное восприятие реально существующего объекта или явл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571680" y="3357720"/>
            <a:ext cx="1018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терпрета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 индивидуальная трактовка исполнителем исполняем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изведени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14200" y="172080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Есть повод говорить, даже по прошествии  пяти сотен лет, об особом взгляде Босха на  жизнь и действитель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Он стоит особняком не только  среди современников и сограждан , но и в целом, значит мы имеем дело с ге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Слово иллюзорное вряд ли подходит в этом случае, но найти более подходящее  не удается. Босх интерпретирует  жизненные картины на своих полотнах  жестоко и точ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И мы видим что это вер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Несение креста. 1516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4" descr="D:\MyDoc\Документы - Папа\Комплексная программа\Репродукции\Брейгель\несение креста.jpg"/>
          <p:cNvPicPr/>
          <p:nvPr/>
        </p:nvPicPr>
        <p:blipFill>
          <a:blip r:embed="rId2"/>
          <a:stretch/>
        </p:blipFill>
        <p:spPr>
          <a:xfrm>
            <a:off x="2214720" y="571680"/>
            <a:ext cx="6124320" cy="55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6160" y="592884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Увенчание терновым венком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1490е – 1500е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D:\MyDoc\Документы - Папа\Комплексная программа\Репродукции\Брейгель\увенчание терновым венком.jpg"/>
          <p:cNvPicPr/>
          <p:nvPr/>
        </p:nvPicPr>
        <p:blipFill>
          <a:blip r:embed="rId2"/>
          <a:stretch/>
        </p:blipFill>
        <p:spPr>
          <a:xfrm>
            <a:off x="1428840" y="428760"/>
            <a:ext cx="4667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00040" y="5214960"/>
            <a:ext cx="48578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орабль дураков. 1490е-1500е 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4" descr="D:\MyDoc\Документы - Папа\Комплексная программа\Репродукции\Брейгель\корабль дураков.jpg"/>
          <p:cNvPicPr/>
          <p:nvPr/>
        </p:nvPicPr>
        <p:blipFill>
          <a:blip r:embed="rId2"/>
          <a:stretch/>
        </p:blipFill>
        <p:spPr>
          <a:xfrm>
            <a:off x="4000680" y="47520"/>
            <a:ext cx="34477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29200" y="5857920"/>
            <a:ext cx="3214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Блудный сын. 1503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14200" y="428760"/>
            <a:ext cx="6072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14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оз сена. 1500-1502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Рисунок 3" descr="Воз сена.jpg"/>
          <p:cNvPicPr/>
          <p:nvPr/>
        </p:nvPicPr>
        <p:blipFill>
          <a:blip r:embed="rId2"/>
          <a:stretch/>
        </p:blipFill>
        <p:spPr>
          <a:xfrm>
            <a:off x="3571920" y="0"/>
            <a:ext cx="487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56:12Z</dcterms:created>
  <dc:creator>Фесенко</dc:creator>
  <dc:description/>
  <dc:language>en-US</dc:language>
  <cp:lastModifiedBy>КарМаН</cp:lastModifiedBy>
  <dcterms:modified xsi:type="dcterms:W3CDTF">2012-04-24T10:39:42Z</dcterms:modified>
  <cp:revision>24</cp:revision>
  <dc:subject/>
  <dc:title>Иллюзии и ассоциации  Иеронима Босха 1450-1516</dc:title>
</cp:coreProperties>
</file>